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8C1-59A7-4634-95ED-4C8304C0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3E2-4318-44C7-A9B4-113F034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C00-A2B5-4A98-94D3-631E5A13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EF9-6448-4FEA-A615-C1F0523D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E823-4E66-4C4B-840F-C30B4AC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5FB3-99EF-4948-B8CE-5FFEA5A6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03D1-1051-4CFE-9F05-601B8C9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78EB-FA34-453A-9222-043539A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0D7-227A-46E3-B7C5-2D3F4DD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A17-9F4B-464D-BBD6-6205C78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A9F-6A88-44C5-B9AB-46EABC1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780-DC43-4D6E-A741-BC5C748C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C393-68A2-4010-BE79-BB8FFC6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D0C-541E-45B2-B5DA-287B22C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3EF-19E4-44A5-9DC5-7891B79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057-C055-4E66-9A6F-8C214EDA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66DD-CABF-455E-B5AF-E661F003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3A4-CFF5-4F50-9919-065555A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7E3-5EA7-4D96-841A-E8BBAEE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4A5-115A-4185-88D1-E904276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297-A636-4A1C-8CC5-6A5AF06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D2F-7FB7-47FF-A1F1-DFAC2BE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9E5-6A52-4194-828C-A24E67F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D22-8725-4100-9EC2-F876B5D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BB41-E09C-494C-BEC4-B5A319877FB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7DD-6713-4C54-97B2-DFA7446EBA3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icrosoft.com/learningessentials/default.m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chnology 101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Ra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810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teach-nolog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requires a membership for ful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atozteacherstuff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.discoveryeducation.com/lesson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dhelp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without paid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lessonplanz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-edtech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was created for inservice teachers at UMD.  It is a great tool for anyone interested in the integration of technology in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6633"/>
                </a:solidFill>
                <a:latin typeface="Times New Roman"/>
              </a:rPr>
              <a:t>HMS Teacher Wiki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523880" y="1905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ki is a work i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of the HMS Teacher Wiki is to create a one-stop resource share for teachers at Hilbert Middle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who choose to join this Wiki will be able to add content that would be useful to co-teachers, parents and students a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link above to view some useful onlin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ktop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folders, your classroom or Lab LM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to Lab LMC with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–Sav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hare- Lab 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Folder – create  your own or have one created for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s and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lick on them and open with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s out of order – click on received and will put them back in dat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screen- good for viewing spam 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Book – create distribution lists –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mail – to box- New button- distribution list – add new name and email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Smart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ens – stalkers, posting things onl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s – stuff that NEVER GOE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websit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berbulling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, Bing, MSN,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 by advertising and money(sponsored 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pedi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 changing – user can modify the text- not always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– give credit – plagiarism, citation etc. and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–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–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–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–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–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C:\Program Files\Microsoft Office\Clipart\smbusbas\BS00093_.wmf"/>
          <p:cNvPicPr/>
          <p:nvPr/>
        </p:nvPicPr>
        <p:blipFill>
          <a:blip r:embed="rId1"/>
          <a:stretch/>
        </p:blipFill>
        <p:spPr>
          <a:xfrm>
            <a:off x="5367240" y="2101680"/>
            <a:ext cx="37386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earch –narrow you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er vs. T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Blue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 and Videos – blocked but can be opened if you 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, News and Shopp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keywords, titl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out things – ebay and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type – PDF, PowerPoint, Word, Excel and Pictures- .jpg or .b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 Plans –usually comes with worksheets and anything else you migh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Websites with Less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fin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u Michigan Virtual University  Thru Learnport- free to all Michigan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mivu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Trekker and other usefu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www.microsoft.com/learningessentials/default.msp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will need to download learning essent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educationlabs.com/projects/MathWorksheetGenerator/Pages/default.asp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recipes4success.com/index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to follow with all hot links needed for Microsof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26:41Z</dcterms:created>
  <dc:creator>radena</dc:creator>
  <dc:description/>
  <dc:language>en-US</dc:language>
  <cp:lastModifiedBy>Pamela Rizzo</cp:lastModifiedBy>
  <dcterms:modified xsi:type="dcterms:W3CDTF">2010-11-02T03:15:40Z</dcterms:modified>
  <cp:revision>32</cp:revision>
  <dc:subject/>
  <dc:title>Technology 101</dc:title>
</cp:coreProperties>
</file>